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6AE-1D0B-4BB3-B945-493F4E1E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60A-42DF-4948-B28F-3BED1663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DA1-E85C-4171-8905-D843EB1B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112-BBC3-4E28-BE04-BBC7B778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C9B-46C0-4611-A0A9-BEFA825D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9BD-61AF-45C7-ABCB-4EC91FE9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B2B-ED5C-46FB-A352-E4AA4FCB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DA3-B839-409D-A3E0-39F4B32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992-5709-4998-9BD0-E0D63252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A9B-3142-4CEF-8F61-A2B7C470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EDC-F011-4C87-A60A-1EFB89EF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A83-FC13-47F7-9138-B0A7850C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03DB-872D-4EFC-9A88-310FC1BCE7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3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Bradley Hand ITC"/>
              </a:rPr>
              <a:t>Mes Lois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Bradley Hand ITC"/>
              </a:rPr>
              <a:t>L’objectif:</a:t>
            </a: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 to revise the weather &amp; to practise reading a longer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2421000"/>
            <a:ext cx="21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Bradley Hand ITC"/>
              </a:rPr>
              <a:t>le 2 ju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479680" cy="34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8508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15040" y="3645000"/>
            <a:ext cx="202896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1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59280" y="189000"/>
            <a:ext cx="2811240" cy="2673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39640" y="0"/>
            <a:ext cx="2374920" cy="28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195640" y="3284640"/>
            <a:ext cx="2022480" cy="280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5734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fa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fa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580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256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Walking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Walkington il y a du v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Beverl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Beverley il y a du sole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Woodmans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Woodmansey il nei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Tick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Tickton il ple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chez les Quebeco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Chez les Quebecois 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Liverp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Liverpool c’est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Écouter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l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gle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ys de G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co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s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el temps fait-il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à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51672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de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complete 2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- matching the sentences with the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-draw pictures on the storybo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e: quand means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e in Monday after half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3709800" cy="51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ple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nei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40752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y a du sole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166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Il y a du v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4880" y="189000"/>
            <a:ext cx="4011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y a des orag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672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fait froi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48000" y="404640"/>
            <a:ext cx="4300560" cy="496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1800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fait chau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620640"/>
            <a:ext cx="3700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15040" y="3645000"/>
            <a:ext cx="202896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19708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59280" y="189000"/>
            <a:ext cx="2811240" cy="267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39640" y="0"/>
            <a:ext cx="2374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95640" y="3284640"/>
            <a:ext cx="202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4:28:16Z</dcterms:created>
  <dc:creator>a.hardiment</dc:creator>
  <dc:description/>
  <dc:language>en-US</dc:language>
  <cp:lastModifiedBy>user</cp:lastModifiedBy>
  <dcterms:modified xsi:type="dcterms:W3CDTF">2015-03-24T18:00:52Z</dcterms:modified>
  <cp:revision>24</cp:revision>
  <dc:subject/>
  <dc:title>Que fais-tu quand il pleut?</dc:title>
</cp:coreProperties>
</file>