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D5B-9D7B-41F5-81A9-7F6F4A5D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C96-1476-418B-BC52-809107D3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58F-DC32-4085-995A-E0875766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1B9-B161-4AA6-8F8A-C23E854C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E0E-7F42-4AEE-A423-187B1CB4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97B-5C0E-4599-920C-C00B8336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664-D34A-4604-81C2-CFF8CCB2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63B-CF24-4FF3-822F-EE592494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9C9-03ED-4EB9-A87D-A0DE3EAF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D8B-A07B-4B35-935A-336B80E6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578A-6B18-4B45-AA5D-9765693A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D52-734F-4B45-9A9D-D044A03F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F8D0-0E5F-4B49-A3AF-E681C85B82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3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Bradley Hand ITC"/>
              </a:rPr>
              <a:t>Mes Loisi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Bradley Hand ITC"/>
              </a:rPr>
              <a:t>L’objectif:</a:t>
            </a: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 to revise the weather &amp; to practise reading a longer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2421000"/>
            <a:ext cx="21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Bradley Hand ITC"/>
              </a:rPr>
              <a:t>le 2 ju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300720" y="1413000"/>
            <a:ext cx="2479680" cy="344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85084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15040" y="3645000"/>
            <a:ext cx="2028960" cy="244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155736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588000" y="189000"/>
            <a:ext cx="2197080" cy="230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059280" y="189000"/>
            <a:ext cx="2811240" cy="2673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39640" y="0"/>
            <a:ext cx="2374920" cy="2808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195640" y="3284640"/>
            <a:ext cx="2022480" cy="2808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640" y="5734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fa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4360" y="609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fa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609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2781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781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y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32360" y="580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y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48360" y="256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l y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Walking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Walkington il y a du v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Beverl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Beverley il y a du solei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Woodmans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Woodmansey il nei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Tick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Tickton il pleu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chez les Quebeco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Chez les Quebecois il fait froi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Quel temps fait-il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à Liverp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À Liverpool c’est coo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Écouter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l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glet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ys de Ga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co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sp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el temps fait-il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à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51672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s devo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complete 2 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- matching the sentences with the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-draw pictures on the storybo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e: quand means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e in Monday after half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3709800" cy="514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ple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nei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3280" y="333360"/>
            <a:ext cx="40752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y a du sole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51166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Il y a du v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4880" y="189000"/>
            <a:ext cx="40114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2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y a des orag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4672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fait froi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48000" y="404640"/>
            <a:ext cx="4300560" cy="496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1800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1640" y="5516640"/>
            <a:ext cx="77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adley Hand ITC"/>
              </a:rPr>
              <a:t>Il fait chau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71640" y="620640"/>
            <a:ext cx="3700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15040" y="3645000"/>
            <a:ext cx="202896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155736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588000" y="189000"/>
            <a:ext cx="2197080" cy="2303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059280" y="189000"/>
            <a:ext cx="2811240" cy="2673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39640" y="0"/>
            <a:ext cx="237492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2195640" y="3284640"/>
            <a:ext cx="2022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4:28:16Z</dcterms:created>
  <dc:creator>a.hardiment</dc:creator>
  <dc:description/>
  <dc:language>en-US</dc:language>
  <cp:lastModifiedBy>user</cp:lastModifiedBy>
  <dcterms:modified xsi:type="dcterms:W3CDTF">2015-03-24T18:00:52Z</dcterms:modified>
  <cp:revision>24</cp:revision>
  <dc:subject/>
  <dc:title>Que fais-tu quand il pleut?</dc:title>
</cp:coreProperties>
</file>