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303-E461-4AA6-A2E5-2F25E20C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DE9-EFE8-4EB0-9AC3-4986D0FA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1C8-E607-4A25-A5FB-2B3EF301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6DF-21FC-40FC-8DD7-E08ED4D5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731-5AC2-4BDE-B6CD-00E118BA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CC2-A663-4BAA-918D-C9D225D5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26A-1214-495F-A5CE-256D6946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572-94A9-4853-A785-8DB7FBCA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A09-FC95-4223-B0E6-0FDBEB75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994-794B-4DA9-932D-DDBB2AF7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363-1A02-41ED-A4AE-7C5DE43B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5E7-B793-4AD0-8C60-A8C3301A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7BB1-EC49-47D4-A4C4-9116F925D0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3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Bradley Hand ITC"/>
              </a:rPr>
              <a:t>Mes Lois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Bradley Hand ITC"/>
              </a:rPr>
              <a:t>L’objectif:</a:t>
            </a: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 to revise the weather &amp; to practise reading a longer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2421000"/>
            <a:ext cx="21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Bradley Hand ITC"/>
              </a:rPr>
              <a:t>le 2 ju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479680" cy="34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8508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15040" y="3645000"/>
            <a:ext cx="202896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55736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21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059280" y="189000"/>
            <a:ext cx="2811240" cy="2673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39640" y="0"/>
            <a:ext cx="2374920" cy="280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195640" y="3284640"/>
            <a:ext cx="2022480" cy="280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5734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fa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fa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78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78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580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256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Walking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Walkington il y a du v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Beverl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Beverley il y a du sole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Woodmans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Woodmansey il nei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Tick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Tickton il ple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chez les Quebeco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Chez les Quebecois il fait froi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Liverp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Liverpool c’est c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Écouter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l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glet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ys de G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co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s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el temps fait-il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à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51672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dev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complete 2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- matching the sentences with the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-draw pictures on the storybo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e: quand means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e in Monday after half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3709800" cy="514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ple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nei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40752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y a du sole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166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Il y a du v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4880" y="189000"/>
            <a:ext cx="40114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y a des orag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672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fait froi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48000" y="404640"/>
            <a:ext cx="4300560" cy="496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1800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fait chau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620640"/>
            <a:ext cx="3700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15040" y="3645000"/>
            <a:ext cx="202896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55736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2197080" cy="230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059280" y="189000"/>
            <a:ext cx="2811240" cy="267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39640" y="0"/>
            <a:ext cx="2374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195640" y="3284640"/>
            <a:ext cx="202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4:28:16Z</dcterms:created>
  <dc:creator>a.hardiment</dc:creator>
  <dc:description/>
  <dc:language>en-US</dc:language>
  <cp:lastModifiedBy>user</cp:lastModifiedBy>
  <dcterms:modified xsi:type="dcterms:W3CDTF">2015-03-24T18:00:52Z</dcterms:modified>
  <cp:revision>24</cp:revision>
  <dc:subject/>
  <dc:title>Que fais-tu quand il pleut?</dc:title>
</cp:coreProperties>
</file>