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B9E-14CA-4A3D-A598-639E4202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2F5-A221-4CF1-888A-4A656F37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1E0-010E-44F2-A7C2-6EFB4251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DF9-5B42-4C84-88CC-4E5C5328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5B4-D6E1-46B7-9948-541AE1C8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2CC1-D51C-4C87-B3A0-84426027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A99-DF13-42C8-BC92-CBA02256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616F-EB5A-4033-AC86-22A826E2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CC9-5CD7-4E37-BCB1-5030AFE0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6FD-B31F-44F9-835D-EF9B7958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55C-37B2-45B5-942F-02419D8E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3E5-C27F-49A4-BC90-27D5624B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9A37-53C5-4B10-928F-061D0C7448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3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Bradley Hand ITC"/>
              </a:rPr>
              <a:t>Mes Loisi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Bradley Hand ITC"/>
              </a:rPr>
              <a:t>L’objectif:</a:t>
            </a: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 to revise the weather &amp; to practise reading a longer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2421000"/>
            <a:ext cx="21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Bradley Hand ITC"/>
              </a:rPr>
              <a:t>le 2 ju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300720" y="1413000"/>
            <a:ext cx="2479680" cy="344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85084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15040" y="3645000"/>
            <a:ext cx="2028960" cy="244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1557360" cy="180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1800360" cy="2519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588000" y="189000"/>
            <a:ext cx="2197080" cy="230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059280" y="189000"/>
            <a:ext cx="2811240" cy="2673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39640" y="0"/>
            <a:ext cx="2374920" cy="2808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2195640" y="3284640"/>
            <a:ext cx="2022480" cy="2808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9640" y="5734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fai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4360" y="609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fai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609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2781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781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y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32360" y="580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y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48360" y="256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l y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à Walking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À Walkington il y a du v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à Beverl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À Beverley il y a du solei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à Woodmans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À Woodmansey il neig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à Tick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À Tickton il pleu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chez les Quebeco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Chez les Quebecois il fait froi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à Liverp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À Liverpool c’est coo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Écouter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l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glet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ys de Ga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co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sp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el temps fait-il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à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51672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s devo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complete 2 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- matching the sentences with the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-draw pictures on the storybo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e: quand means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e in Monday after half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3709800" cy="514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58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pleu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58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nei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3280" y="333360"/>
            <a:ext cx="40752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y a du sole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51166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58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radley Hand ITC"/>
              </a:rPr>
              <a:t>Il y a du v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4880" y="189000"/>
            <a:ext cx="40114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2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y a des orag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84360" y="620640"/>
            <a:ext cx="4672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58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fait froi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48000" y="404640"/>
            <a:ext cx="4300560" cy="4969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1800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164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fait chau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71640" y="620640"/>
            <a:ext cx="3700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15040" y="3645000"/>
            <a:ext cx="202896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155736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1800360" cy="251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588000" y="189000"/>
            <a:ext cx="2197080" cy="2303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059280" y="189000"/>
            <a:ext cx="2811240" cy="2673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39640" y="0"/>
            <a:ext cx="237492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2195640" y="3284640"/>
            <a:ext cx="2022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4:28:16Z</dcterms:created>
  <dc:creator>a.hardiment</dc:creator>
  <dc:description/>
  <dc:language>en-US</dc:language>
  <cp:lastModifiedBy>user</cp:lastModifiedBy>
  <dcterms:modified xsi:type="dcterms:W3CDTF">2015-03-24T18:00:52Z</dcterms:modified>
  <cp:revision>24</cp:revision>
  <dc:subject/>
  <dc:title>Que fais-tu quand il pleut?</dc:title>
</cp:coreProperties>
</file>