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FB7-3760-4EFC-B4CA-84673C10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CD0-4FA1-458D-B336-2B31B4A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551-C921-464D-8596-91C28080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D75-9858-4E19-9313-174AC7AB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B90-AE56-4036-9820-AEF179A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399-1C1B-45E8-BA9D-C60E7D4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258-8AF4-4062-844D-D39FACB3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75F-AAFD-4CEC-86CA-7626BD26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9C0-C13C-47BF-81E3-FC2E5CD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0FF-885E-4FDC-8313-87F484B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82F-3017-4B13-8861-A03CDF7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D48-3F33-4278-B862-06813C3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41F-7521-4697-A09D-753BE22E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été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0542_" descr=""/>
          <p:cNvPicPr/>
          <p:nvPr/>
        </p:nvPicPr>
        <p:blipFill>
          <a:blip r:embed="rId1"/>
          <a:stretch/>
        </p:blipFill>
        <p:spPr>
          <a:xfrm>
            <a:off x="685800" y="2098800"/>
            <a:ext cx="3809880" cy="387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autom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0864_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09880" cy="330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’hi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1004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O01378_" descr=""/>
          <p:cNvPicPr/>
          <p:nvPr/>
        </p:nvPicPr>
        <p:blipFill>
          <a:blip r:embed="rId1"/>
          <a:stretch/>
        </p:blipFill>
        <p:spPr>
          <a:xfrm>
            <a:off x="960480" y="198108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"/>
              </a:rPr>
              <a:t>C’est quelle sa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’est le printem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09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907_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384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ét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tom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en hi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u printe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8:45:44Z</dcterms:created>
  <dc:creator>Mary</dc:creator>
  <dc:description/>
  <dc:language>en-US</dc:language>
  <cp:lastModifiedBy>user</cp:lastModifiedBy>
  <dcterms:modified xsi:type="dcterms:W3CDTF">2015-04-07T18:17:31Z</dcterms:modified>
  <cp:revision>3</cp:revision>
  <dc:subject/>
  <dc:title>C’est quelle saison?</dc:title>
</cp:coreProperties>
</file>