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6AE-101F-48C1-A1B5-303C7DCE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860-DA49-43FD-935D-F94A0EC5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77E-AECB-44F1-9046-C426B5A3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0D4-9764-4A98-817E-19EE12CB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321-2789-4C1B-9A7B-8E12BCFD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BB5-F5F1-425C-8D82-761649F9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D7F-D66B-4966-8EFD-32BE0CED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736-7E99-4684-80FB-F75A147E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09B-95AA-4DC6-B909-A027E549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6A1-E8C3-4677-9D66-A3D918BB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F3D-7247-456D-84E2-E4885C29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AB8-B550-4C0C-B64E-E4C75949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69ED-F76F-4A84-B6F7-EA2649611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été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4352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0542_" descr=""/>
          <p:cNvPicPr/>
          <p:nvPr/>
        </p:nvPicPr>
        <p:blipFill>
          <a:blip r:embed="rId1"/>
          <a:stretch/>
        </p:blipFill>
        <p:spPr>
          <a:xfrm>
            <a:off x="685800" y="2098800"/>
            <a:ext cx="3809880" cy="387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7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33920" y="1905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autom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A00864_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09880" cy="330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hiv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1004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O01378_" descr=""/>
          <p:cNvPicPr/>
          <p:nvPr/>
        </p:nvPicPr>
        <p:blipFill>
          <a:blip r:embed="rId1"/>
          <a:stretch/>
        </p:blipFill>
        <p:spPr>
          <a:xfrm>
            <a:off x="960480" y="1981080"/>
            <a:ext cx="325908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e printem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909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NA00907_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384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l temps fait-i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ét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autom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en hi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u printemp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8:45:44Z</dcterms:created>
  <dc:creator>Mary</dc:creator>
  <dc:description/>
  <dc:language>en-US</dc:language>
  <cp:lastModifiedBy>user</cp:lastModifiedBy>
  <dcterms:modified xsi:type="dcterms:W3CDTF">2015-04-07T18:17:31Z</dcterms:modified>
  <cp:revision>3</cp:revision>
  <dc:subject/>
  <dc:title>C’est quelle saison?</dc:title>
</cp:coreProperties>
</file>