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499C-C9CE-4053-B876-34D7BB0F4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574A-4130-4F34-944C-481FD48C3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79A8-4776-41F7-8399-3EE299A99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4FEE-0D7B-4DA4-99F5-23C2E63E0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D66E-0F63-4B28-BCF5-F9E24B4A7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A7BB-BBB8-47F1-8484-B2BB150B0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9D14-F87A-4B5B-8C12-17AE37E76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CEDC-4245-4BC0-8D0B-B938FE27D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80CA-4B59-497A-8FC3-E25365EDE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C39E-F03D-4C83-9C92-E31EBF39F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7FC0-F655-403E-AC70-3F8B24DFB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8996-FCE6-4D6E-8333-CE1B8BBE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7A0EA-88E0-464B-BB59-8D6557CC9A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Arial"/>
              </a:rPr>
              <a:t>C’est quelle sais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 Black"/>
              </a:rPr>
              <a:t>C’est l’été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4352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E00542_" descr=""/>
          <p:cNvPicPr/>
          <p:nvPr/>
        </p:nvPicPr>
        <p:blipFill>
          <a:blip r:embed="rId1"/>
          <a:stretch/>
        </p:blipFill>
        <p:spPr>
          <a:xfrm>
            <a:off x="685800" y="2098800"/>
            <a:ext cx="3809880" cy="38782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75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75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cc3399"/>
                </a:solidFill>
                <a:latin typeface="Arial"/>
              </a:rPr>
              <a:t>C’est quelle sais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733920" y="1905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 Black"/>
              </a:rPr>
              <a:t>C’est l’automn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8620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NA00864_" descr=""/>
          <p:cNvPicPr/>
          <p:nvPr/>
        </p:nvPicPr>
        <p:blipFill>
          <a:blip r:embed="rId1"/>
          <a:stretch/>
        </p:blipFill>
        <p:spPr>
          <a:xfrm>
            <a:off x="228600" y="2362320"/>
            <a:ext cx="3809880" cy="33066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75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Arial"/>
              </a:rPr>
              <a:t>C’est quelle sais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 Black"/>
              </a:rPr>
              <a:t>C’est l’hiver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10040" y="27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SO01378_" descr=""/>
          <p:cNvPicPr/>
          <p:nvPr/>
        </p:nvPicPr>
        <p:blipFill>
          <a:blip r:embed="rId1"/>
          <a:stretch/>
        </p:blipFill>
        <p:spPr>
          <a:xfrm>
            <a:off x="960480" y="1981080"/>
            <a:ext cx="3259080" cy="41148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75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Arial"/>
              </a:rPr>
              <a:t>C’est quelle sais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85840" y="198108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 Black"/>
              </a:rPr>
              <a:t>C’est le printemp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99096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NA00907_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3809880" cy="38419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75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l temps fait-i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…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été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…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automn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en hiv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au printemp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08:45:44Z</dcterms:created>
  <dc:creator>Mary</dc:creator>
  <dc:description/>
  <dc:language>en-US</dc:language>
  <cp:lastModifiedBy>user</cp:lastModifiedBy>
  <dcterms:modified xsi:type="dcterms:W3CDTF">2015-04-07T18:17:31Z</dcterms:modified>
  <cp:revision>3</cp:revision>
  <dc:subject/>
  <dc:title>C’est quelle saison?</dc:title>
</cp:coreProperties>
</file>