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E68-DCB5-41B6-8BFA-6E6FAC26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ECA-2BAE-4975-880C-A4DC5F96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7F0-C989-430E-9B6B-E6373404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DAF-BACD-40F2-9373-94F39E36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674-C2B9-44CE-8E57-7553A814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5D8-E510-44FF-9EDE-22DE14ED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E6D-BEC6-4EB9-BAEA-9112B6C0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DF4-43EA-4978-A653-88B34AA3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074-C445-4DE7-BDDF-D0AB6C40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C09-0D57-4DA8-931A-465597E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215-6BA8-429E-8FBF-408C64F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FB1-BA3B-4193-ACD6-7DE76ED0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7B86-48E2-4B8C-82EC-F04B19E2D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été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35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0542_" descr=""/>
          <p:cNvPicPr/>
          <p:nvPr/>
        </p:nvPicPr>
        <p:blipFill>
          <a:blip r:embed="rId1"/>
          <a:stretch/>
        </p:blipFill>
        <p:spPr>
          <a:xfrm>
            <a:off x="685800" y="2098800"/>
            <a:ext cx="3809880" cy="387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7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33920" y="1905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autom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A00864_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09880" cy="330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hiv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100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O01378_" descr=""/>
          <p:cNvPicPr/>
          <p:nvPr/>
        </p:nvPicPr>
        <p:blipFill>
          <a:blip r:embed="rId1"/>
          <a:stretch/>
        </p:blipFill>
        <p:spPr>
          <a:xfrm>
            <a:off x="960480" y="1981080"/>
            <a:ext cx="325908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e printem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09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NA00907_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384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l temps fait-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ét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autom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en hi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u printemp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45:44Z</dcterms:created>
  <dc:creator>Mary</dc:creator>
  <dc:description/>
  <dc:language>en-US</dc:language>
  <cp:lastModifiedBy>user</cp:lastModifiedBy>
  <dcterms:modified xsi:type="dcterms:W3CDTF">2015-04-07T18:17:31Z</dcterms:modified>
  <cp:revision>3</cp:revision>
  <dc:subject/>
  <dc:title>C’est quelle saison?</dc:title>
</cp:coreProperties>
</file>